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92552"/>
        <c:axId val="50271200"/>
      </c:barChart>
      <c:catAx>
        <c:axId val="446925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71200"/>
        <c:crosses val="autoZero"/>
        <c:auto val="1"/>
        <c:lblAlgn val="ctr"/>
        <c:lblOffset val="100"/>
        <c:noMultiLvlLbl val="0"/>
      </c:catAx>
      <c:valAx>
        <c:axId val="50271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925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A01-8AFB-4C82-BDF1-2DDC790B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F6AD-D043-42AE-A333-1D2E881C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2506-2C60-4490-9CB0-F25D1558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7FE0-81C4-4B32-AC63-61568034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F65-5F44-419C-8152-DD2D82B1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8961-5086-4A9A-8725-23133DCC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E137-5BD1-49FF-8374-55E9B1CC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201-ED26-48BB-A828-E31EB0AA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CBF3-075A-4355-978F-E7098F1B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8B0-1850-4AE1-9B67-33DD50B6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04BA-6010-45CD-8B4B-C3A42633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1841-9476-4B32-89D6-9B1FE7D7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E33BC-4149-451E-BB5F-55B644BE47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