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188947"/>
        <c:axId val="66709162"/>
      </c:barChart>
      <c:catAx>
        <c:axId val="561889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09162"/>
        <c:crosses val="autoZero"/>
        <c:auto val="1"/>
        <c:lblAlgn val="ctr"/>
        <c:lblOffset val="100"/>
        <c:noMultiLvlLbl val="0"/>
      </c:catAx>
      <c:valAx>
        <c:axId val="667091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889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9840-A377-42A1-AE75-8D8DDFF2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06A3-DCEB-44E1-BFE1-0400FF66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72D4-8D8D-4B90-B8EE-8BEAEBED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ADE5-CEAB-4865-B60D-88A14E1E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5A91-4811-4816-9453-3A695C05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834E-5608-41DE-9F01-C52DA8BB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33A0-0D64-40AA-8F4B-7E8A9D5F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8788-7D70-4345-90D6-F4175346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DF53-4B6C-406C-8765-D888D3EE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3D6E-3261-4FE8-BAF7-46869063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DD0E-758D-475C-B739-C9538D47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01B6-9447-4FF4-9E69-37A4DE4A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CEE59-E878-4F63-AFF4-CB0E7FFBBA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