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88337"/>
        <c:axId val="2167817"/>
      </c:barChart>
      <c:catAx>
        <c:axId val="61488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7817"/>
        <c:crosses val="autoZero"/>
        <c:auto val="1"/>
        <c:lblAlgn val="ctr"/>
        <c:lblOffset val="100"/>
        <c:noMultiLvlLbl val="0"/>
      </c:catAx>
      <c:valAx>
        <c:axId val="2167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88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3D1-5D40-442D-B6ED-8AB862AC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054-603D-41F9-A6DC-9C3A241D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2E0-B165-4B60-8436-DB2A99ED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EBF-F306-42BF-9524-B0759C19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033-8AC1-4077-B3F9-56AA45BD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05C-0CEE-4E0B-92B1-61803B2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98C-5B7C-4030-8E9E-FFC629C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651-C7B2-45D9-BEE3-051D25A1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468-588D-4A16-BBBC-D4FA055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79D-46B4-4305-9BB0-DF4FD45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862-56BB-4141-A34A-069B453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133-8466-43BF-B83F-36609D2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7E042-C2F7-4493-BE1B-7B74A001C9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